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0C9-AE0C-4E9F-8ED1-B24B1428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79C-EB99-4B6E-8E32-CD473256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310-8EBE-432C-AF02-56AA485E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836-0D93-4726-B234-0C86BFAD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80C-5D82-43A6-9A13-2C48AB07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368-C8EA-43C2-B2CC-97C48C1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D20-5330-412C-8E77-6CB0EDF4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E16-F28E-49EE-9D8B-00B0C966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31F-5EA6-4D81-A658-8633DD19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C6C-9B4E-45BF-8473-7C214EEC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3B5-EF6C-40D5-846F-C59EE65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617-9173-4853-A37D-AE60A737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CFCD-F729-4E5C-B661-99D2B978C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838080"/>
            <a:ext cx="6477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xercice 20 p 23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ur le miroi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7000" y="838080"/>
            <a:ext cx="587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rayon du miroir sphérique est de 16 c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c SC = 16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25146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1440" y="4191120"/>
            <a:ext cx="646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ur un miroir sphérique, nous avons toujou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F = SC / 2 donc SF = 8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1880" y="11430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152920" y="5410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8152920" y="990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1880" y="1143000"/>
            <a:ext cx="2286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9120" y="335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3800" y="2819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3800" y="335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35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066680" y="1447920"/>
            <a:ext cx="0" cy="1828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8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139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33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0760" y="-34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44792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520" y="1447920"/>
            <a:ext cx="8001000" cy="3962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447920"/>
            <a:ext cx="0" cy="4267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0880" y="990720"/>
            <a:ext cx="57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n rayon // à l’axe optique se reflète en direction du foyer F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8680" y="373392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Un rayon passant par le centre n’est pas dévi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9960" y="2857680"/>
            <a:ext cx="42156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000" y="4724280"/>
            <a:ext cx="40932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3276720"/>
            <a:ext cx="0" cy="18288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8600" y="5791320"/>
            <a:ext cx="6959520" cy="8254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A coïncide avec le centre alors l’image se trou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le même plan que l’objet et simplement retourn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11430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152920" y="5410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8152920" y="990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1880" y="1143000"/>
            <a:ext cx="2286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9120" y="335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800" y="2819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3800" y="335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335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24280" y="1447920"/>
            <a:ext cx="0" cy="1828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888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8880" y="1219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533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80760" y="-34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144792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80520" y="1447920"/>
            <a:ext cx="8001000" cy="3962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52280" y="1447920"/>
            <a:ext cx="4572000" cy="2286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17400" y="5791320"/>
            <a:ext cx="6363720" cy="8254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A coïncide avec le foyer alors l’image se trou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ée à l’infi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63244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.Gar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13:34:27Z</dcterms:created>
  <dc:creator>*</dc:creator>
  <dc:description/>
  <dc:language>en-US</dc:language>
  <cp:lastModifiedBy>*</cp:lastModifiedBy>
  <dcterms:modified xsi:type="dcterms:W3CDTF">2002-09-27T14:22:21Z</dcterms:modified>
  <cp:revision>4</cp:revision>
  <dc:subject/>
  <dc:title>Aucun titre de diapositive</dc:title>
</cp:coreProperties>
</file>