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7EBB-672D-4E37-902F-2E773687F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C2CF-C46A-469D-8BFC-93B5B23D3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916C-2DDA-4E39-8C59-C24A41ABD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BB3B-2093-4D3A-A066-CBB80C211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7CEF-0644-43D9-B959-FCCBA9D4E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6F8D-27CE-4050-B7CD-E8AD75750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CE1E-2246-4FC5-9D6E-AA7E00B0B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8CDF-39C7-4FD2-93E8-C8C2C25BA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798F-3D3E-4D37-A616-3CBB0765C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138C-AC45-4EFE-9F86-29303433B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4002-3BAD-4617-BC69-780EFD6A9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3538-B44F-4E4F-8319-A115452C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F23BB-E806-4C9E-BD3F-81A1154548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00"/>
            </a:gs>
            <a:gs pos="100000">
              <a:srgbClr val="ff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33520" y="838080"/>
            <a:ext cx="800100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8c3d91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Construction d'une image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8c3d91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dans un téléscope de Newton.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1880" y="114300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8152920" y="54100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 flipV="1">
            <a:off x="8152920" y="99036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381880" y="1143000"/>
            <a:ext cx="228600" cy="4267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5680" y="27432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3124080"/>
            <a:ext cx="8229600" cy="762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609480" y="3886200"/>
            <a:ext cx="77724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32767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3880" y="4800600"/>
            <a:ext cx="5334120" cy="1143000"/>
          </a:xfrm>
          <a:prstGeom prst="cloudCallout">
            <a:avLst>
              <a:gd name="adj1" fmla="val -10444"/>
              <a:gd name="adj2" fmla="val -12861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133720" y="502920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 rayon passant par le foyer image est réfléchi parallèlement à l’axe opt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743200" y="533520"/>
            <a:ext cx="3581280" cy="1523880"/>
          </a:xfrm>
          <a:prstGeom prst="cloudCallout">
            <a:avLst>
              <a:gd name="adj1" fmla="val -79652"/>
              <a:gd name="adj2" fmla="val 14323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124080" y="76212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’image d’un objet situé à l’infini se forme dans le plan focal ima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1880" y="114300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8152920" y="54100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8152920" y="99036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81880" y="1143000"/>
            <a:ext cx="228600" cy="4267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5680" y="27432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280" y="3124080"/>
            <a:ext cx="8229600" cy="762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609480" y="3886200"/>
            <a:ext cx="77724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32767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43400" y="0"/>
            <a:ext cx="3581280" cy="1523880"/>
          </a:xfrm>
          <a:prstGeom prst="cloudCallout">
            <a:avLst>
              <a:gd name="adj1" fmla="val -67152"/>
              <a:gd name="adj2" fmla="val 10302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0600" y="22860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place un miroir incliné à 45°  par rapport à l’axe optiq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8074200">
            <a:off x="1678680" y="3164040"/>
            <a:ext cx="2286000" cy="74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381880" y="114300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8152920" y="54100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8152920" y="99036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381880" y="1143000"/>
            <a:ext cx="228600" cy="4267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5680" y="27432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2280" y="3124080"/>
            <a:ext cx="8229600" cy="762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286000" y="3886200"/>
            <a:ext cx="60199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76520" y="32767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8074200">
            <a:off x="616680" y="3451680"/>
            <a:ext cx="4027320" cy="98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76520" y="327672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3886200"/>
            <a:ext cx="53316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09680" y="44197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4952880"/>
            <a:ext cx="3048120" cy="914400"/>
          </a:xfrm>
          <a:prstGeom prst="cloudCallout">
            <a:avLst>
              <a:gd name="adj1" fmla="val -81407"/>
              <a:gd name="adj2" fmla="val -1015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62520" y="510552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e miroir donne donc une image symétrique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2209680" y="3886200"/>
            <a:ext cx="76320" cy="533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09120" y="3886200"/>
            <a:ext cx="167652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25146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467560" y="34128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8238600" y="46083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 flipV="1">
            <a:off x="8238600" y="1886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467560" y="341280"/>
            <a:ext cx="228600" cy="4267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11360" y="19414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2362320"/>
            <a:ext cx="8238960" cy="7221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371680" y="3084480"/>
            <a:ext cx="60199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8074200">
            <a:off x="702360" y="2649960"/>
            <a:ext cx="4027320" cy="98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2295360" y="36180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2295360" y="3084480"/>
            <a:ext cx="76320" cy="533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51460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133720" y="44197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724280" y="5105520"/>
            <a:ext cx="4419720" cy="1371600"/>
          </a:xfrm>
          <a:prstGeom prst="cloudCallout">
            <a:avLst>
              <a:gd name="adj1" fmla="val -88217"/>
              <a:gd name="adj2" fmla="val -9351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257800" y="5257800"/>
            <a:ext cx="3444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l suffit alors d’observer cette nouvelle image à l’aide d’une loupe, c’est à dire d’un ocul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54600" y="3578400"/>
            <a:ext cx="45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25146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467560" y="34128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8238600" y="46083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 flipV="1">
            <a:off x="8238600" y="1886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467560" y="341280"/>
            <a:ext cx="228600" cy="4267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11360" y="19414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2362320"/>
            <a:ext cx="8238960" cy="7221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371680" y="3084480"/>
            <a:ext cx="60199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8074200">
            <a:off x="702360" y="2649960"/>
            <a:ext cx="4027320" cy="98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295360" y="36180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361960" y="3124080"/>
            <a:ext cx="75960" cy="533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95480" y="251460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133720" y="44197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362320" y="35812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362320" y="3581280"/>
            <a:ext cx="205740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62320" y="4419720"/>
            <a:ext cx="167616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0" y="1066680"/>
            <a:ext cx="2362320" cy="3353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151920" y="380880"/>
            <a:ext cx="2210040" cy="3200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715000" y="2091960"/>
            <a:ext cx="456840" cy="84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453" y="1054"/>
                </a:moveTo>
                <a:arcTo wR="10800" hR="10800" stAng="-3868920" swAng="3868920"/>
                <a:lnTo>
                  <a:pt x="10800" y="10800"/>
                </a:lnTo>
                <a:close/>
              </a:path>
              <a:path fill="none" w="21600" h="21600">
                <a:moveTo>
                  <a:pt x="15453" y="1054"/>
                </a:moveTo>
                <a:arcTo wR="10800" hR="10800" stAng="-3868920" swAng="386892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438640" y="5637960"/>
            <a:ext cx="91368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402600" y="24382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09680" y="6207120"/>
            <a:ext cx="4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81480" y="5140440"/>
            <a:ext cx="144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 /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54600" y="3578400"/>
            <a:ext cx="45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62720" y="5562720"/>
            <a:ext cx="335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’image finale est projetée à l’infini pour que l’observation soit reposa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67200" y="6234120"/>
            <a:ext cx="103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© B Gar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7T13:34:27Z</dcterms:created>
  <dc:creator>*</dc:creator>
  <dc:description/>
  <dc:language>en-US</dc:language>
  <cp:lastModifiedBy>b g</cp:lastModifiedBy>
  <dcterms:modified xsi:type="dcterms:W3CDTF">2005-03-12T00:20:33Z</dcterms:modified>
  <cp:revision>12</cp:revision>
  <dc:subject/>
  <dc:title>Aucun titre de diapositive</dc:title>
</cp:coreProperties>
</file>